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4BB-1ACA-4247-A747-FCF81963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E00-C86A-4931-8344-E28D64E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931-1E8B-4F3A-94A9-6C2DA539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1A2-E993-465F-BB2D-86A8F4F3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DC330-315C-440C-B567-4771D464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007DF-CFC1-4739-A029-46DC35F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971C3-3C84-4A1E-9E4F-FBD25920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9DA26-5CAD-4EBC-B222-EDED8BCD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EAAEA-6D31-4CC7-B729-22A3FA27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9CCE3-D069-41F9-AC68-7DE3E6BF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E022E-81D9-45F3-A3B6-9453925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55D-5E50-452C-9294-BCAA8E3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214B-F38F-40C4-A366-90BB8BB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8BDC7-E594-4731-8217-66B56BD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FD1BF-6A8D-43B0-8FC1-F269F69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7EB13-FC62-49EA-9766-75F54208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863E4-3BA8-4241-B4A9-3C18EB97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CDA1-C6D5-4D1E-AB6F-5A51C027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5A5C-EE57-4D96-8FF8-C94EBE4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A844-7501-4D56-BA5D-BFD83573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60A0-C94A-4A01-8B57-5439C517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3456-50EE-4EDD-9422-9BE741B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6DA-485C-4914-BB9E-C1EBE723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F8AA-1AC1-4EB7-A150-C66E0C24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2B00-F0A0-4CAB-983E-1C1813E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2E3F-386E-4FF1-B903-085BD88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EC92-0780-41F8-B74D-71F678C6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6976-E813-4788-9570-3B4B177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9D7A-2017-4CF5-8229-247108F1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F1989-DF05-4C93-A44A-6214448D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CC1DA-1098-4E14-9B89-10BD6956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1E9E9-D243-40A5-87C4-E06BCEA5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A73A6-3AD7-4981-974E-B8D2B90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EB9-8933-4BC1-87E6-E921944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CA76C-13AD-41B6-835B-74C48628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FCA04-481E-4CAB-AD0D-E84F6F82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3709A-EC1F-4DB3-952B-64D5B81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20A6B-982E-4968-8317-6E22F09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990A9-0E75-4594-B917-40699AC0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1B40A-B0EF-466B-98AC-86171F4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2B154-DECB-4AAE-A1B6-651C4239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8FE33-5A0F-4FD1-8384-BBBAB80A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A94C6-3014-46D9-9F25-F84F7A77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0F4-F709-440C-928E-75317342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048-6F51-498A-8393-DC30A05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53A-9EF7-4504-84A5-82B15FD8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699-4B99-4373-BDBA-ED9655D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AEF-BD88-4F27-AB71-86CAC83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410-CD2D-4915-B822-3D47D841E4F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4B2-81FB-408A-8CD4-F1FD5E9D4FA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2C22-1342-4ED7-ACB2-FA113EAA59B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BC5-40EE-4534-AFB8-CE84E8EE3DA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Bookman Old Style"/>
              </a:rPr>
              <a:t>By Albert Rosenau </a:t>
            </a:r>
            <a:r>
              <a:rPr b="0" lang="ja-JP" sz="2200" spc="-1" strike="noStrike">
                <a:solidFill>
                  <a:srgbClr val="fefac9"/>
                </a:solidFill>
                <a:latin typeface="Bookman Old Style"/>
                <a:ea typeface="HG明朝E"/>
              </a:rPr>
              <a:t>アルバートロセナ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Bookman Old Style"/>
              </a:rPr>
              <a:t>And Adas Adam Joniec</a:t>
            </a:r>
            <a:r>
              <a:rPr b="0" lang="ja-JP" sz="2200" spc="-1" strike="noStrike">
                <a:solidFill>
                  <a:srgbClr val="fefac9"/>
                </a:solidFill>
                <a:latin typeface="Bookman Old Style"/>
                <a:ea typeface="HG明朝E"/>
              </a:rPr>
              <a:t>　アダシアダメヨニエツ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mo is a competitive full contact wrestling sport with two wrestlers (or rikishi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力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). It is preformed on a pad of clay with a layer of sand. It originated from Japan and this is the only place where it is practiced profession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3090960" y="3657600"/>
            <a:ext cx="400032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Sumo, the wrestler (or rikishi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力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ies to force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her wrestler out of a ring (or  dohyō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土俵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t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uch the ground with anything other than the sol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their fee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2590920" y="3048120"/>
            <a:ext cx="438156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mo is considered a gendai budō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現代ぶどお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(moder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martial art) but its history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has been around for man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centuries. It was used as a trial of strength in battle, an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was associated with the Shinto Religion as a ritu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505320" y="3597120"/>
            <a:ext cx="2301840" cy="270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es, Sumo was a ritual for the Shinto Religion, in cert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rines it was even a form of ritual dance where 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man wrestled with a Kami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神（かみ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or a Shint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Divine Spirit)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as an important ritual at 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perial Cou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189240" y="3510000"/>
            <a:ext cx="427356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mo has many ancient traditions, including sal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rification from when Sumo was used in Shinto. The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so stomp on the mat to scare away demon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609480" y="3219480"/>
            <a:ext cx="37371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510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25360" y="341280"/>
            <a:ext cx="8461440" cy="178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665360" y="1828800"/>
            <a:ext cx="5600520" cy="447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ere are many, many types of martial arts around the worl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We are concentrating on 4 Japanese arts: Ninjutsu, Judo, Karate, and Sum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577960" y="2505240"/>
            <a:ext cx="3378240" cy="271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553600" cy="160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594640" cy="163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838080" y="1319040"/>
            <a:ext cx="7696440" cy="5134320"/>
          </a:xfrm>
          <a:prstGeom prst="rect">
            <a:avLst/>
          </a:prstGeom>
          <a:ln w="0">
            <a:noFill/>
          </a:ln>
        </p:spPr>
      </p:pic>
      <p:pic>
        <p:nvPicPr>
          <p:cNvPr id="180" name="Title 2" descr=""/>
          <p:cNvPicPr/>
          <p:nvPr/>
        </p:nvPicPr>
        <p:blipFill>
          <a:blip r:embed="rId2"/>
          <a:stretch/>
        </p:blipFill>
        <p:spPr>
          <a:xfrm>
            <a:off x="0" y="-55440"/>
            <a:ext cx="868680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do is a modern competitive martial art, combat, and Olympic sport. Judo is all about the flexible or efficient use of balance, leverage, and movement in the form of throws and other skil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54007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object of judo is to either throw or takedown a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pponent, immobilize or subdue them, or force them t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bmit. You cant strike the opponent with hands or fe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less in pre arranged for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2476440" y="34290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do was created in japan in 1882 by Jigoro Kano. It is 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ndai budō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現代ぶどお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dern martial art), and it i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the Olympic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3092400" y="2590920"/>
            <a:ext cx="53215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594640" cy="1633680"/>
          </a:xfrm>
          <a:prstGeom prst="rect">
            <a:avLst/>
          </a:prstGeom>
          <a:ln w="0">
            <a:noFill/>
          </a:ln>
        </p:spPr>
      </p:pic>
      <p:pic>
        <p:nvPicPr>
          <p:cNvPr id="191" name="Content Placeholder 7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33559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58:09Z</dcterms:created>
  <dc:creator>Albert Rosenau</dc:creator>
  <dc:description/>
  <dc:language>en-US</dc:language>
  <cp:lastModifiedBy>Albert Rosenau</cp:lastModifiedBy>
  <dcterms:modified xsi:type="dcterms:W3CDTF">2012-12-11T19:41:56Z</dcterms:modified>
  <cp:revision>19</cp:revision>
  <dc:subject/>
  <dc:title>Martial Arts</dc:title>
</cp:coreProperties>
</file>